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1B1D-B750-41C4-B2B7-ED7390A35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9CBA-B4FE-4562-A660-73FC3C652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0F51-B2AC-4112-AD28-09F6A32AD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A232-23C2-4178-8BB2-36D3F6410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2AB5B-9419-44DE-A137-317774617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D55C7-F945-4608-A5B9-2DBEAB6C5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CBDAE-2670-4A75-B587-F2FA83326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CFC3F-16CA-43AC-9408-025A1C02F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C8C8F-8A0F-4E7A-8E26-FB8183A40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D4C9D-168D-453B-89DD-130F3EDBC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662A3-E356-4320-A149-EBEF3E603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444E-ADFC-4DC7-8DFF-56E63B65C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971E8-61F9-4EA7-9AF8-27A377790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F65DA-E3A2-48E9-BAF6-38F7317F7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CDB83-DA0E-4F07-83B9-DCD261F25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753E9-3DB3-4A28-BDF8-D6D21CF04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D6B5F-CB85-4372-9711-271DAB8D5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8EE958-B3D6-4BC0-9209-2FF15F961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E52872-37E9-46D9-ADE7-809048484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547A39-E233-4A24-A8B5-18C248C33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DC9FEA-569F-4F1A-B505-F7B5C70DF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A254E8-1F4F-4C62-A5E5-F9A78F641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BAB0-0F78-4F4A-A252-B5E25F69F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A3B6EE-0189-493C-AC26-7128AE62A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B00FE9-4D67-4884-9709-1A1A85673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805B07-8A93-4BEB-A2AE-453389961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03F7DF-4908-43C3-A268-75E6C04FD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106538-2FE4-4063-AA2B-938818116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D383FE-1D68-46BC-8BCF-D86B5AFE7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DB8703-E6ED-438C-9553-D2102015C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0F7797-0DA3-45C2-875D-785800B3E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3D29EA-EE64-48D1-B6B8-20E0D8281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D19550-37AA-4ED4-9634-596A7CCE6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0B91-F11A-463E-BAD0-64C852184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440916-8DA6-42BA-9123-BB0DA6737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2E8FFD-9B11-420B-A2AF-1215B5164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A82F12-EADE-4C82-BB9C-AF3384824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1EE078-AAFD-4A18-B3F9-AF4DD8697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792953-BDE0-4839-A9CA-981CED4F6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8ED07B-BFFD-4B13-9DED-6C0D46D0A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1766B9-C6FE-42DE-A900-E3AED5D24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978B47-2A80-4959-AADA-7EA8B445A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E9C788-1CC0-46D9-80EE-268D75AE9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DEB1-5CAD-41E6-9974-99DA1632F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96CA-2AF2-4999-B052-956E39A64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2BEC-60D0-4997-8759-285B1EF5F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3F05-F860-4A84-BFF9-290469E57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964E-2146-4AB5-8281-B37DF4FAD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C3CC5-FEE4-45E8-A5CD-740C24AA61A2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3109F-3B82-483F-8210-745F8DB59548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BD95C-1376-4B27-972B-04EA025D6C29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7C565-DD17-4F23-BF55-7E49BAF40D72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МБОУ «Средняя общеобразовательная школа №1»</a:t>
            </a:r>
            <a:br>
              <a:rPr sz="2200"/>
            </a:br>
            <a:r>
              <a:rPr b="0" lang="ru-RU" sz="2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г. Мичуринска</a:t>
            </a:r>
            <a:endParaRPr b="0" lang="en-US" sz="2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ированный урок по теме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Решение химических задач с математическим содержанием»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химия и математика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панова Людмила Ивановна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химии высшей квалификационной категории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рсова Татьяна Васильевна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математики высшей квалификационной категории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Ответы </a:t>
            </a:r>
            <a:br>
              <a:rPr sz="5000"/>
            </a:b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Задача 1 -  40%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Задача 2 – СН3ОН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Задача 3 – СН5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Задача 4 -  НСООН (муравьиная кислота) – 33,3%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            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2Н5ОН – 66,7%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Домашнее задание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На нейтрализацию 15,2г смеси муравьиной и уксусной кислот потребовалось 120г 10% раствора гидроксида натрия. Вычислите массовые доли кислот в исходной смеси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Смесь изомерных м- и о-алкилфенолов массой 32,4г может вступить во взаимодействие с водным раствором, содержащим 128г брома. Такое же количество смеси может  нейтрализовать 16,8г едкого кали. Определите состав смеси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Определите строение сложного  эфира α-аминокислоты, если известно, что он содержит 15,37% азот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Заголовок 1" descr=""/>
          <p:cNvPicPr/>
          <p:nvPr/>
        </p:nvPicPr>
        <p:blipFill>
          <a:blip r:embed="rId1"/>
          <a:stretch/>
        </p:blipFill>
        <p:spPr>
          <a:xfrm>
            <a:off x="73080" y="701640"/>
            <a:ext cx="8699400" cy="1150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8" name=""/>
          <p:cNvGraphicFramePr/>
          <p:nvPr/>
        </p:nvGraphicFramePr>
        <p:xfrm>
          <a:off x="357120" y="2143080"/>
          <a:ext cx="8501040" cy="2928960"/>
        </p:xfrm>
        <a:graphic>
          <a:graphicData uri="http://schemas.openxmlformats.org/drawingml/2006/table">
            <a:tbl>
              <a:tblPr/>
              <a:tblGrid>
                <a:gridCol w="1908360"/>
                <a:gridCol w="920520"/>
                <a:gridCol w="986040"/>
                <a:gridCol w="987480"/>
                <a:gridCol w="874440"/>
                <a:gridCol w="874800"/>
                <a:gridCol w="1030320"/>
                <a:gridCol w="919080"/>
              </a:tblGrid>
              <a:tr h="195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есятичная дроб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0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6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цент,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11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Индивидуальная работа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 algn="just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nstantia"/>
              </a:rPr>
              <a:t>Некоторый углеводород содержит 11,76% водорода по массе. Известно, что молекула этого углеводорода содержит один третичный атом углерода. Установлено, что этот углеводород может взаимодействовать с аммиачным раствором оксида серебра. Установите молекулярную формулу исходного органического вещества, составьте структурную формулу этого соединения.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 algn="just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nstantia"/>
              </a:rPr>
              <a:t>Органическое вещесво, массовая доля углерода в котором составляет 0,6206, водорода – 0,1032, кислорода – 0,2758, имеет относительную плотность паров по воздуху, равную 2. Установлено, что вещество не реагирует с гидроксидом меди (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II</a:t>
            </a:r>
            <a:r>
              <a:rPr b="0" lang="ru-RU" sz="1700" spc="-1" strike="noStrike">
                <a:solidFill>
                  <a:srgbClr val="000000"/>
                </a:solidFill>
                <a:latin typeface="Constantia"/>
              </a:rPr>
              <a:t>), но вступает в реакцию с хлоридом фосфора (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V</a:t>
            </a:r>
            <a:r>
              <a:rPr b="0" lang="ru-RU" sz="1700" spc="-1" strike="noStrike">
                <a:solidFill>
                  <a:srgbClr val="000000"/>
                </a:solidFill>
                <a:latin typeface="Constantia"/>
              </a:rPr>
              <a:t>). Установите молекулярную формулу исходного органического вещества, составьте структурную формулу этого соединения.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 algn="just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nstantia"/>
              </a:rPr>
              <a:t>Оганическое вещество содержит 40% углерода, 53,3% кислорода, 6,6% водорода. Известно, что это соединение  взаимодействует гдроксидом калия, но не реагирует с калием. Установите молекулярную формулу исходного органического вещества, составьте структурную формулу этого соединения.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 algn="just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nstantia"/>
              </a:rPr>
              <a:t>Массовая доля хлора в монохлоралкане 38,38%. Установите молекулярную формулу исходного органического вещества, составьте структурную формулу этого соединения.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Ответы к задачам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 С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8           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 – С(СН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– С </a:t>
            </a:r>
            <a:r>
              <a:rPr b="0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Н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С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      СН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СО – СН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 С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НСООСН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 С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СН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СН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СН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СН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Фронтальная работа</a:t>
            </a:r>
            <a:br>
              <a:rPr sz="2900"/>
            </a:br>
            <a:r>
              <a:rPr b="0" lang="ru-RU" sz="29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(задания муниципального этапа </a:t>
            </a:r>
            <a:br>
              <a:rPr sz="2900"/>
            </a:br>
            <a:r>
              <a:rPr b="0" lang="ru-RU" sz="29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ВсОШ по химии)</a:t>
            </a:r>
            <a:endParaRPr b="0" lang="en-US" sz="2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окислени 1,18г смеси муравьиного и уксусного альдегидов избытком аммиачного раствора оксида серебра образовалось 8,64г осадка. Определите массовую долю альдегидов в смеси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Ответ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Уксусный альдегид – 25,4%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Муравьиный альдегид-74,6%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Фронтальная работа</a:t>
            </a:r>
            <a:br>
              <a:rPr sz="2900"/>
            </a:br>
            <a:r>
              <a:rPr b="0" lang="ru-RU" sz="29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(задания муниципального этапа </a:t>
            </a:r>
            <a:br>
              <a:rPr sz="2900"/>
            </a:br>
            <a:r>
              <a:rPr b="0" lang="ru-RU" sz="29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ВсОШ по химии)</a:t>
            </a:r>
            <a:endParaRPr b="0" lang="en-US" sz="2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,6г смеси трех органических кислот – муравьиной, уксусной и щавелевой – разделили на две равные части. При полном сгорании первой части выделилось 20,16л газа. Для нейтрализаци второй  части смеси было израсходовано 400г 14% раствора едкого натра. Какой состав имела анализируемая смесь кислот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Ответ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Муравьиная кислота – 13,8г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Уксусная кислота – 12г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Щавелевая кислота – 9г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1714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Задачи для работы в группах</a:t>
            </a:r>
            <a:br>
              <a:rPr sz="5000"/>
            </a:b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Смесь бутена-1 и бутадиена-1,2 объемом 1,12л может максимально обесцветить 400г бромной воды с массовой долей брома 3,2%. Определите объемную долю бутен-1 в исходной смеси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В результатет межмолекулярной дегидратации предельного одноатомного спирта образовался простой эфир, массовая доля углерода в котором равна 52,17%. Установите молекулярную формулу спирта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Выведите молекулярную формулу органического вещества, содержащего 38,7% углерода, 16,2% водорода и азот. Относительная плотность этого вещества по водороду равна 15,5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При действии натрия на 27,6г смеси этилового спирта и предельной одноосновной кислоты выделяется 6,72л газа, а при действии на ту  же смесь насыщенного раствора гидрокарбоната натрия – 2,24л газа. Определите состав исходной  смеси ( в % по массе) и строение органической кислоты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4-11T17:02:41Z</dcterms:created>
  <dc:creator>1</dc:creator>
  <dc:description/>
  <dc:language>en-US</dc:language>
  <cp:lastModifiedBy>Учительская</cp:lastModifiedBy>
  <dcterms:modified xsi:type="dcterms:W3CDTF">2021-11-17T15:53:36Z</dcterms:modified>
  <cp:revision>27</cp:revision>
  <dc:subject/>
  <dc:title>Решение химических задач с математическим содержанием</dc:title>
</cp:coreProperties>
</file>